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4A7-1C86-4F9D-8662-A2B35BDD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719-AD2F-4184-AAA8-C3A384C4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E2D-974D-41F1-94FF-310C53B5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9B2-B7B9-41B7-8269-D28BB580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6FB-C370-4829-91DB-F5D2F29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8A2-F5DD-4468-A6AE-D1432066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0F7-BE01-499E-91FC-225A8879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4DD-D027-405A-87D5-D14CDB5E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6B5-F561-4B2B-A350-1C61441E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F96-929D-41E0-8B84-2E380A03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AA8-16D8-4AAA-BA38-EF41221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75B-AACC-4AAA-857B-CFC0255B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5D9A-FF0A-42B7-8157-52FB9F511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-17640" y="256536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е обсужд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х ассигнований 2017 года утвержденного бюджета городского округа Тольятти на 2016 год и плановый период 2017-2018 год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орядитель бюджетных средств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физической культуры и спор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042920" y="177336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эрия городского округа Тольят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Users\user\Desktop\city_gerb_light.png"/>
          <p:cNvPicPr/>
          <p:nvPr/>
        </p:nvPicPr>
        <p:blipFill>
          <a:blip r:embed="rId1"/>
          <a:stretch/>
        </p:blipFill>
        <p:spPr>
          <a:xfrm>
            <a:off x="3995640" y="184320"/>
            <a:ext cx="117324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"/>
          <p:cNvSpPr/>
          <p:nvPr/>
        </p:nvSpPr>
        <p:spPr>
          <a:xfrm>
            <a:off x="0" y="0"/>
            <a:ext cx="9144000" cy="11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овые объемы финанс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асли «Физическая культура и спорт» на 2017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500880" y="2071800"/>
            <a:ext cx="3571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000760" y="1197000"/>
          <a:ext cx="4143240" cy="569268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2560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Думы городского округа Тольятти от 18.05.2016г. № 1077 "О внесении изменений в Решение Думы городского округа Тольятти от 09.12.2015г.  № 911 "О бюджете городского округа Тольятти  на 2016 год и плановый период 2017 и 2018  годов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a78ce"/>
                    </a:solidFill>
                  </a:tcPr>
                </a:tc>
              </a:tr>
              <a:tr h="1882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финансирования отрасли «Физическая культура и спорт» за счет средств городского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124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 070,0 тыс.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48" name="Блок-схема: процесс 11"/>
          <p:cNvSpPr/>
          <p:nvPr/>
        </p:nvSpPr>
        <p:spPr>
          <a:xfrm>
            <a:off x="2714760" y="1481040"/>
            <a:ext cx="500040" cy="285840"/>
          </a:xfrm>
          <a:prstGeom prst="flowChartProcess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иаграмма 12" descr=""/>
          <p:cNvPicPr/>
          <p:nvPr/>
        </p:nvPicPr>
        <p:blipFill>
          <a:blip r:embed="rId1"/>
          <a:stretch/>
        </p:blipFill>
        <p:spPr>
          <a:xfrm>
            <a:off x="-41400" y="1481040"/>
            <a:ext cx="55119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bb5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10825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46800" anchor="ctr">
            <a:noAutofit/>
          </a:bodyPr>
          <a:p>
            <a:pPr marL="446040" indent="-4460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ение физической культуры и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7"/>
          <p:cNvSpPr/>
          <p:nvPr/>
        </p:nvSpPr>
        <p:spPr>
          <a:xfrm>
            <a:off x="4535640" y="2629080"/>
            <a:ext cx="36360" cy="389700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TextBox 9"/>
          <p:cNvGrpSpPr/>
          <p:nvPr/>
        </p:nvGrpSpPr>
        <p:grpSpPr>
          <a:xfrm>
            <a:off x="4784760" y="4048200"/>
            <a:ext cx="4219560" cy="2828880"/>
            <a:chOff x="4784760" y="4048200"/>
            <a:chExt cx="4219560" cy="2828880"/>
          </a:xfrm>
        </p:grpSpPr>
        <p:pic>
          <p:nvPicPr>
            <p:cNvPr id="54" name="TextBox 9" descr=""/>
            <p:cNvPicPr/>
            <p:nvPr/>
          </p:nvPicPr>
          <p:blipFill>
            <a:blip r:embed="rId1"/>
            <a:stretch/>
          </p:blipFill>
          <p:spPr>
            <a:xfrm>
              <a:off x="4784760" y="4048200"/>
              <a:ext cx="421956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905360" y="4076640"/>
              <a:ext cx="3867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Непрограмм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направления расходо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d0d0d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401 663,0 тыс. руб</a:t>
              </a:r>
              <a:r>
                <a:rPr b="1" lang="ru-RU" sz="2000" spc="-1" strike="noStrike">
                  <a:solidFill>
                    <a:srgbClr val="0d0d0d"/>
                  </a:solidFill>
                  <a:latin typeface="Calibri"/>
                </a:rPr>
                <a:t>. </a:t>
              </a:r>
              <a:r>
                <a:rPr b="1" lang="ru-RU" sz="32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(99,9 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14"/>
          <p:cNvSpPr/>
          <p:nvPr/>
        </p:nvSpPr>
        <p:spPr>
          <a:xfrm>
            <a:off x="5062680" y="2701800"/>
            <a:ext cx="37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 algn="just">
              <a:buClr>
                <a:srgbClr val="63252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 algn="just">
              <a:buClr>
                <a:srgbClr val="63252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TextBox 22"/>
          <p:cNvGrpSpPr/>
          <p:nvPr/>
        </p:nvGrpSpPr>
        <p:grpSpPr>
          <a:xfrm>
            <a:off x="249120" y="4048200"/>
            <a:ext cx="4103640" cy="2828880"/>
            <a:chOff x="249120" y="4048200"/>
            <a:chExt cx="4103640" cy="2828880"/>
          </a:xfrm>
        </p:grpSpPr>
        <p:pic>
          <p:nvPicPr>
            <p:cNvPr id="58" name="TextBox 22" descr=""/>
            <p:cNvPicPr/>
            <p:nvPr/>
          </p:nvPicPr>
          <p:blipFill>
            <a:blip r:embed="rId2"/>
            <a:stretch/>
          </p:blipFill>
          <p:spPr>
            <a:xfrm>
              <a:off x="249120" y="4048200"/>
              <a:ext cx="410364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69720" y="4076640"/>
              <a:ext cx="38674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Программные направления расход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407 тыс. руб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(0,1%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Стрелка вниз 1"/>
          <p:cNvSpPr/>
          <p:nvPr/>
        </p:nvSpPr>
        <p:spPr>
          <a:xfrm>
            <a:off x="1604880" y="2851200"/>
            <a:ext cx="1352520" cy="1017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3"/>
          <p:cNvSpPr/>
          <p:nvPr/>
        </p:nvSpPr>
        <p:spPr>
          <a:xfrm>
            <a:off x="6162840" y="2851200"/>
            <a:ext cx="1352520" cy="1017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0" y="1209600"/>
            <a:ext cx="9144000" cy="947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ассигнования 2017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2 070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-49320" y="-23760"/>
            <a:ext cx="9242640" cy="1150920"/>
          </a:xfrm>
          <a:prstGeom prst="rect">
            <a:avLst/>
          </a:prstGeom>
          <a:ln w="0">
            <a:noFill/>
          </a:ln>
        </p:spPr>
      </p:pic>
      <p:pic>
        <p:nvPicPr>
          <p:cNvPr id="64" name="Схема 5" descr=""/>
          <p:cNvPicPr/>
          <p:nvPr/>
        </p:nvPicPr>
        <p:blipFill>
          <a:blip r:embed="rId2"/>
          <a:stretch/>
        </p:blipFill>
        <p:spPr>
          <a:xfrm>
            <a:off x="249120" y="1212840"/>
            <a:ext cx="8682120" cy="5645160"/>
          </a:xfrm>
          <a:prstGeom prst="rect">
            <a:avLst/>
          </a:prstGeom>
          <a:ln w="0">
            <a:noFill/>
          </a:ln>
        </p:spPr>
      </p:pic>
      <p:pic>
        <p:nvPicPr>
          <p:cNvPr id="65" name="Группа 32" descr=""/>
          <p:cNvPicPr/>
          <p:nvPr/>
        </p:nvPicPr>
        <p:blipFill>
          <a:blip r:embed="rId3"/>
          <a:stretch/>
        </p:blipFill>
        <p:spPr>
          <a:xfrm>
            <a:off x="5668920" y="1457280"/>
            <a:ext cx="3475080" cy="1236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5"/>
          <p:cNvSpPr/>
          <p:nvPr/>
        </p:nvSpPr>
        <p:spPr>
          <a:xfrm>
            <a:off x="6534000" y="1701720"/>
            <a:ext cx="2122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7,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8"/>
          <p:cNvSpPr/>
          <p:nvPr/>
        </p:nvSpPr>
        <p:spPr>
          <a:xfrm>
            <a:off x="4660920" y="4140360"/>
            <a:ext cx="4410000" cy="9619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ДО СДЮСШОР № 2 «Красные Крыл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C:\Users\user\Desktop\logo.jpg"/>
          <p:cNvPicPr/>
          <p:nvPr/>
        </p:nvPicPr>
        <p:blipFill>
          <a:blip r:embed="rId4"/>
          <a:stretch/>
        </p:blipFill>
        <p:spPr>
          <a:xfrm>
            <a:off x="176040" y="3286080"/>
            <a:ext cx="439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кругленный прямоугольник 14" descr=""/>
          <p:cNvPicPr/>
          <p:nvPr/>
        </p:nvPicPr>
        <p:blipFill>
          <a:blip r:embed="rId1"/>
          <a:stretch/>
        </p:blipFill>
        <p:spPr>
          <a:xfrm>
            <a:off x="-49320" y="-23760"/>
            <a:ext cx="9242640" cy="1395360"/>
          </a:xfrm>
          <a:prstGeom prst="rect">
            <a:avLst/>
          </a:prstGeom>
          <a:ln w="0">
            <a:noFill/>
          </a:ln>
        </p:spPr>
      </p:pic>
      <p:pic>
        <p:nvPicPr>
          <p:cNvPr id="70" name="Диаграмма 5" descr=""/>
          <p:cNvPicPr/>
          <p:nvPr/>
        </p:nvPicPr>
        <p:blipFill>
          <a:blip r:embed="rId2"/>
          <a:stretch/>
        </p:blipFill>
        <p:spPr>
          <a:xfrm>
            <a:off x="0" y="1577880"/>
            <a:ext cx="5148360" cy="5164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320" y="6066000"/>
            <a:ext cx="47656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1 663 тыс. ру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0" y="1295280"/>
          <a:ext cx="4572000" cy="55627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е зад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401  107  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латы и компенсации матеря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168 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воение спортивных разрядов и судейских катего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54  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1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устранению нарушений в области обеспечения пожарной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334  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кругленный прямоугольник 14"/>
          <p:cNvSpPr/>
          <p:nvPr/>
        </p:nvSpPr>
        <p:spPr>
          <a:xfrm>
            <a:off x="0" y="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Объект 8" descr=""/>
          <p:cNvPicPr/>
          <p:nvPr/>
        </p:nvPicPr>
        <p:blipFill>
          <a:blip r:embed="rId1"/>
          <a:stretch/>
        </p:blipFill>
        <p:spPr>
          <a:xfrm>
            <a:off x="0" y="1357200"/>
            <a:ext cx="4673520" cy="4357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18572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5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43320" y="1295280"/>
          <a:ext cx="4757760" cy="5585040"/>
        </p:xfrm>
        <a:graphic>
          <a:graphicData uri="http://schemas.openxmlformats.org/drawingml/2006/table">
            <a:tbl>
              <a:tblPr/>
              <a:tblGrid>
                <a:gridCol w="4757760"/>
              </a:tblGrid>
              <a:tr h="982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 по спортивной подготовке по видам сп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372 375,3 тыс.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№1 «Обеспечение участия лиц, проходящих спортивную подготовку, в спортивных соревнованиях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2 500, 0 тыс.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№2 «Организация и проведение официальных спортивных мероприят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5 900 тыс.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№3 «Организация и обеспечение подготовки спортивного резерв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4 812,7 тыс.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84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№4 «Пропаганда физической культуры, спорта и здорового образа жизн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15 519 тыс.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11"/>
          <p:cNvSpPr/>
          <p:nvPr/>
        </p:nvSpPr>
        <p:spPr>
          <a:xfrm>
            <a:off x="1857240" y="3789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2 375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24000" y="6008760"/>
            <a:ext cx="39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1 107,0 тыс. ру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Международный фестиваль гандбола"/>
          <p:cNvPicPr/>
          <p:nvPr/>
        </p:nvPicPr>
        <p:blipFill>
          <a:blip r:embed="rId1"/>
          <a:stretch/>
        </p:blipFill>
        <p:spPr>
          <a:xfrm>
            <a:off x="228600" y="2057400"/>
            <a:ext cx="1154160" cy="1143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0" name="Заголовок 4"/>
          <p:cNvSpPr/>
          <p:nvPr/>
        </p:nvSpPr>
        <p:spPr>
          <a:xfrm>
            <a:off x="0" y="152280"/>
            <a:ext cx="7858080" cy="561960"/>
          </a:xfrm>
          <a:prstGeom prst="flowChartDelay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ализация Календарного плана физкультурных мероприятий  и спортивных мероприятий городского округа Тольят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Тольяттинский лыжный марафон"/>
          <p:cNvPicPr/>
          <p:nvPr/>
        </p:nvPicPr>
        <p:blipFill>
          <a:blip r:embed="rId2"/>
          <a:stretch/>
        </p:blipFill>
        <p:spPr>
          <a:xfrm>
            <a:off x="1500120" y="1285920"/>
            <a:ext cx="1000080" cy="114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2" name="Picture 6" descr="Фестиваль баскетбола Жигули-Баскет"/>
          <p:cNvPicPr/>
          <p:nvPr/>
        </p:nvPicPr>
        <p:blipFill>
          <a:blip r:embed="rId3"/>
          <a:stretch/>
        </p:blipFill>
        <p:spPr>
          <a:xfrm>
            <a:off x="2743200" y="1066680"/>
            <a:ext cx="1144440" cy="1127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3" name="Picture 10" descr="Фестиваль футбола"/>
          <p:cNvPicPr/>
          <p:nvPr/>
        </p:nvPicPr>
        <p:blipFill>
          <a:blip r:embed="rId4"/>
          <a:stretch/>
        </p:blipFill>
        <p:spPr>
          <a:xfrm>
            <a:off x="4038480" y="838080"/>
            <a:ext cx="800280" cy="1389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Прямоугольник 9"/>
          <p:cNvSpPr/>
          <p:nvPr/>
        </p:nvSpPr>
        <p:spPr>
          <a:xfrm>
            <a:off x="1143000" y="221472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7 г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м физической культуры и спорта в городском округе Тольятти запланировано провед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2 физкультурных мероприят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х мероприятий по более 50 видам спор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щим охватом участников 75 200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мероприятий по адаптивному спорту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оличеством участников свы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Anand\Desktop\для презентации\Фото\DSC_6316.JPG"/>
          <p:cNvPicPr/>
          <p:nvPr/>
        </p:nvPicPr>
        <p:blipFill>
          <a:blip r:embed="rId5"/>
          <a:stretch/>
        </p:blipFill>
        <p:spPr>
          <a:xfrm>
            <a:off x="2036880" y="4857840"/>
            <a:ext cx="2462040" cy="1751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Шутов\Рабочий стол\P4140207.JPG"/>
          <p:cNvPicPr/>
          <p:nvPr/>
        </p:nvPicPr>
        <p:blipFill>
          <a:blip r:embed="rId6"/>
          <a:stretch/>
        </p:blipFill>
        <p:spPr>
          <a:xfrm>
            <a:off x="0" y="514512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C:\Documents and Settings\Admin\Рабочий стол\Презентация\Фото\Фестиваль стритбола\Фото130.jpg"/>
          <p:cNvPicPr/>
          <p:nvPr/>
        </p:nvPicPr>
        <p:blipFill>
          <a:blip r:embed="rId7"/>
          <a:stretch/>
        </p:blipFill>
        <p:spPr>
          <a:xfrm>
            <a:off x="7143840" y="5126040"/>
            <a:ext cx="186048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Шутов\Рабочий стол\25012013_ARB (1).jpg"/>
          <p:cNvPicPr/>
          <p:nvPr/>
        </p:nvPicPr>
        <p:blipFill>
          <a:blip r:embed="rId8"/>
          <a:stretch/>
        </p:blipFill>
        <p:spPr>
          <a:xfrm>
            <a:off x="212760" y="3432240"/>
            <a:ext cx="1671480" cy="1596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Шутов\Рабочий стол\3.JPG"/>
          <p:cNvPicPr/>
          <p:nvPr/>
        </p:nvPicPr>
        <p:blipFill>
          <a:blip r:embed="rId9"/>
          <a:stretch/>
        </p:blipFill>
        <p:spPr>
          <a:xfrm>
            <a:off x="7070760" y="3645000"/>
            <a:ext cx="1933560" cy="1353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C:\Users\Shutov Dima\Desktop\Гандбол\14.JPG"/>
          <p:cNvPicPr/>
          <p:nvPr/>
        </p:nvPicPr>
        <p:blipFill>
          <a:blip r:embed="rId10"/>
          <a:stretch/>
        </p:blipFill>
        <p:spPr>
          <a:xfrm>
            <a:off x="4498920" y="4857840"/>
            <a:ext cx="2644920" cy="1695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C:\Documents and Settings\user\Рабочий стол\27012014_liiyjnya_Rossii-2014.jpg"/>
          <p:cNvPicPr/>
          <p:nvPr/>
        </p:nvPicPr>
        <p:blipFill>
          <a:blip r:embed="rId11"/>
          <a:stretch/>
        </p:blipFill>
        <p:spPr>
          <a:xfrm>
            <a:off x="7643880" y="1714680"/>
            <a:ext cx="1071360" cy="107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C:\Documents and Settings\user\Рабочий стол\14092014_kross-nacii-2014-logo.jpg"/>
          <p:cNvPicPr/>
          <p:nvPr/>
        </p:nvPicPr>
        <p:blipFill>
          <a:blip r:embed="rId12"/>
          <a:stretch/>
        </p:blipFill>
        <p:spPr>
          <a:xfrm>
            <a:off x="6357960" y="135720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C:\Documents and Settings\user\Рабочий стол\21042014_logo_9_may_estafeta-2014.jpg"/>
          <p:cNvPicPr/>
          <p:nvPr/>
        </p:nvPicPr>
        <p:blipFill>
          <a:blip r:embed="rId13"/>
          <a:stretch/>
        </p:blipFill>
        <p:spPr>
          <a:xfrm>
            <a:off x="5072040" y="1071720"/>
            <a:ext cx="1071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2"/>
          <p:cNvSpPr/>
          <p:nvPr/>
        </p:nvSpPr>
        <p:spPr>
          <a:xfrm>
            <a:off x="4964040" y="1143000"/>
            <a:ext cx="4037040" cy="25765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и строительство 2-х многофункциональных физкультурно-спортивных комплексов «Тройка» - бассейн, игровой зал,  искусственный лёд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4978440" y="3830760"/>
            <a:ext cx="4000320" cy="13795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и строительство легкоатлетического манежа на стадионе «Торпе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5"/>
          <p:cNvSpPr/>
          <p:nvPr/>
        </p:nvSpPr>
        <p:spPr>
          <a:xfrm>
            <a:off x="4964040" y="5300640"/>
            <a:ext cx="4071960" cy="14414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универсальных спортивных площадок на территории муниципаль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https://encrypted-tbn1.gstatic.com/images?q=tbn:ANd9GcSx6ju921bNS8IQKgKFLbQ0QWB0tPvLFhPS-QHJiC76CnICPnQ7qg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1652760" y="2523960"/>
            <a:ext cx="14983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https://encrypted-tbn2.gstatic.com/images?q=tbn:ANd9GcQmn599-zh5taNx6ItJcFZf200f6Aml6HKtMeShBW6ZSrVqzgL4aA"/>
          <p:cNvPicPr/>
          <p:nvPr/>
        </p:nvPicPr>
        <p:blipFill>
          <a:blip r:embed="rId2">
            <a:lum bright="-8000"/>
          </a:blip>
          <a:stretch/>
        </p:blipFill>
        <p:spPr>
          <a:xfrm>
            <a:off x="122400" y="2523960"/>
            <a:ext cx="1554120" cy="119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http://sdelanounas.ru/i/c/2/c2RlbGFub3VuYXMucnUvdXBsb2Fkcy81LzAvNTA3MTM2MzAyNzM5MS5qcGVnP19faWQ9MjcxNzA=.jpg"/>
          <p:cNvPicPr/>
          <p:nvPr/>
        </p:nvPicPr>
        <p:blipFill>
          <a:blip r:embed="rId3">
            <a:lum bright="-8000"/>
          </a:blip>
          <a:stretch/>
        </p:blipFill>
        <p:spPr>
          <a:xfrm>
            <a:off x="3065400" y="2523960"/>
            <a:ext cx="1790640" cy="11955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http://school58.tgl.net.ru/files/image/P1050337.JPG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155520" y="5357880"/>
            <a:ext cx="224640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http://school58.tgl.net.ru/files/doc58/P1050883.JPG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2401920" y="5357880"/>
            <a:ext cx="2414520" cy="13842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5" descr="http://uor-penza.ru/wp-content/gallery/2010/dsc01130.jpg"/>
          <p:cNvPicPr/>
          <p:nvPr/>
        </p:nvPicPr>
        <p:blipFill>
          <a:blip r:embed="rId6"/>
          <a:stretch/>
        </p:blipFill>
        <p:spPr>
          <a:xfrm>
            <a:off x="166680" y="3830760"/>
            <a:ext cx="2340000" cy="13651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3" descr="http://www.oblsport-penza.ru/files/rubin4.jpg"/>
          <p:cNvPicPr/>
          <p:nvPr/>
        </p:nvPicPr>
        <p:blipFill>
          <a:blip r:embed="rId7">
            <a:lum bright="-18000"/>
          </a:blip>
          <a:stretch/>
        </p:blipFill>
        <p:spPr>
          <a:xfrm>
            <a:off x="2489040" y="3830760"/>
            <a:ext cx="2364120" cy="137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4" descr=""/>
          <p:cNvPicPr/>
          <p:nvPr/>
        </p:nvPicPr>
        <p:blipFill>
          <a:blip r:embed="rId8"/>
          <a:stretch/>
        </p:blipFill>
        <p:spPr>
          <a:xfrm>
            <a:off x="122400" y="1222200"/>
            <a:ext cx="4733640" cy="130176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21"/>
          <p:cNvSpPr/>
          <p:nvPr/>
        </p:nvSpPr>
        <p:spPr>
          <a:xfrm>
            <a:off x="0" y="0"/>
            <a:ext cx="91440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а из вышестоящих бюдже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звитие спортивной инфраструктуры в г.о.Тольят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-17640" y="263700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е обсужд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х ассигнований 2017 года утвержденного бюджета городского округа Тольятти на 2016 год и плановый период 2017-2018 год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042920" y="20350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эрия городского округа Тольят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360360" y="486900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Users\user\Desktop\city_gerb_light.png"/>
          <p:cNvPicPr/>
          <p:nvPr/>
        </p:nvPicPr>
        <p:blipFill>
          <a:blip r:embed="rId1"/>
          <a:stretch/>
        </p:blipFill>
        <p:spPr>
          <a:xfrm>
            <a:off x="3957480" y="130320"/>
            <a:ext cx="12290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2:06:37Z</dcterms:created>
  <dc:creator>Anand</dc:creator>
  <dc:description/>
  <dc:language>en-US</dc:language>
  <cp:lastModifiedBy>user</cp:lastModifiedBy>
  <cp:lastPrinted>2016-06-07T12:10:41Z</cp:lastPrinted>
  <dcterms:modified xsi:type="dcterms:W3CDTF">2016-06-10T04:50:17Z</dcterms:modified>
  <cp:revision>569</cp:revision>
  <dc:subject/>
  <dc:title>Слайд 1</dc:title>
</cp:coreProperties>
</file>